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3.jpeg" ContentType="image/jpeg"/>
  <Override PartName="/ppt/media/image24.jpeg" ContentType="image/jpeg"/>
  <Override PartName="/ppt/media/image8.jpeg" ContentType="image/jpeg"/>
  <Override PartName="/ppt/media/image41.wmf" ContentType="image/x-wmf"/>
  <Override PartName="/ppt/media/image39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35.gif" ContentType="image/gif"/>
  <Override PartName="/ppt/media/image7.jpeg" ContentType="image/jpeg"/>
  <Override PartName="/ppt/media/image28.jpeg" ContentType="image/jpeg"/>
  <Override PartName="/ppt/media/image31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13.jpeg" ContentType="image/jpeg"/>
  <Override PartName="/ppt/media/image12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3D7-9D28-44E0-A01E-32B228B7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A38-08DE-417C-B027-CB390AB4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E82B-1197-47B7-B5E2-6AE994FC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44D-235F-4218-8DAA-D2C6B30D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D70-2F0E-48BE-9262-BF73C9BF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F8F-72B8-45FF-A214-0D3BD187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AEAC-2D8A-44D4-BDD0-5AB776A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FEDE-CBC1-4011-92E0-E2E666F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EBA9-6F72-463D-9FE6-A85897C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B654-A80A-4EBA-98EC-D0DDDD2D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BF01-362C-411B-8D32-C335A8B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A0F-3417-4D63-AD0C-593299A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FD3-8366-4004-9141-2AFCBB5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D5FB-606F-4661-BE83-A91FC7D6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FC8B-F347-4A4F-B223-334E57CB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2AA-A27B-4068-A0D3-947361A0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DFE8-3EBE-42C5-8F17-6E9CF920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788-5D05-454F-90FE-A5E43FFD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A9A-3F80-469B-9901-227A231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A93-B5AD-429A-875E-6B7A8536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47B-0B75-4779-8DBF-2C649933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F85-3741-41C0-94A5-F1AF8D3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F60-68CE-4D1A-AD21-9962ADEA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E88-6D37-4FA4-AAA1-C62F6432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8F9B-2938-4867-9A61-A8381B1F32E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4292-1648-4D6B-93E7-8F4385663B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www.hollywoodchicago.com/uploaded_images/will_smith.jpg&amp;imgrefurl=http://www.windycitizen.com/blogs/nearly-next-year/2008/07/07/now-casting-cubs-vs-cardinals-the-movie&amp;usg=__9UgYf5fWf2ZnXIYgEp-pWlgX2fo=&amp;h=398&amp;w=299&amp;sz=45&amp;hl=en&amp;start=10&amp;um=1&amp;tbnid=LbhSTYQDwBw66M:&amp;tbnh=124&amp;tbnw=93&amp;prev=/images%3Fq%3Dwill%2Bsmith%26hl%3Den%26safe%3Dactive%26rls%3Dcom.microsoft:*%26sa%3DN%26um%3D1" TargetMode="External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21.jpe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2.gif"/><Relationship Id="rId7" Type="http://schemas.openxmlformats.org/officeDocument/2006/relationships/image" Target="../media/image10.jpeg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cc"/>
                </a:solidFill>
                <a:latin typeface="Arial"/>
              </a:rPr>
              <a:t>¿Qué te gustaría ser?</a:t>
            </a:r>
            <a:endParaRPr b="0" lang="en-US" sz="6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os Trabajo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os ________ trabajan en una ______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SchoolCenter Picture"/>
          <p:cNvPicPr/>
          <p:nvPr/>
        </p:nvPicPr>
        <p:blipFill>
          <a:blip r:embed="rId1"/>
          <a:stretch/>
        </p:blipFill>
        <p:spPr>
          <a:xfrm>
            <a:off x="609480" y="2438280"/>
            <a:ext cx="337032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4038480" cy="2684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85160" y="5791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directo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________.  Los ______trabajan en Hollywood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151000" cy="2666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971880" cy="297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434340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943600" y="1600200"/>
            <a:ext cx="2590920" cy="2085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81240" y="38862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ac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61840" y="28195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s actor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90400" y="46483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actriz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 gustaría ser ______.  Los _________trabajan en la oficina de corre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44640" y="198108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56360" y="62485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cart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2895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. Los ____________ curan _________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terinari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35280" cy="4114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960920" y="586728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l veterinari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57680" y="5715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a veterinar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3271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504960" cy="49910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67880" y="571500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Un bombe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629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_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4114800" cy="3352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86400" y="1905120"/>
            <a:ext cx="2481120" cy="373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639800" y="53341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polic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88880" y="563868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polici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¿Qué te gustaría ser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1204920" cy="1295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1523880" cy="14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276720" y="3352680"/>
            <a:ext cx="1382760" cy="1714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1476360" cy="2209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2133720" y="4495680"/>
            <a:ext cx="1703160" cy="182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705720" y="35053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1066680" y="1600200"/>
            <a:ext cx="851040" cy="1447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2514600" y="1523880"/>
            <a:ext cx="10382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6553080" y="1447920"/>
            <a:ext cx="1257480" cy="18381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0"/>
          <a:stretch/>
        </p:blipFill>
        <p:spPr>
          <a:xfrm>
            <a:off x="5943600" y="4876920"/>
            <a:ext cx="1508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2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7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1000" fill="hold"/>
                                        <p:tgtEl>
                                          <p:spTgt spid="2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1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 ___________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_________ trabaja en una escuela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9376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3962520" cy="3500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724280" y="2514600"/>
            <a:ext cx="3733920" cy="2481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1160" y="57150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maestr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70520" y="56386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maest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_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35304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3962520" cy="4267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5200" y="609588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cantan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24840" y="617220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cantan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. __________trabajan en el hospital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1676520"/>
            <a:ext cx="1776600" cy="1631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51000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3371760" cy="2122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24880" y="60199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medic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os ___________ curan tus diente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nstis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124080" cy="4267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15800" y="5715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dens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63720" y="52578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s dient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.  Me gusta pintar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tis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644560" cy="4496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4800600" cy="3219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00920" y="586728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ar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07200" y="52578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artis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e gustaría ser _________.  Las __________ trabajan en el _________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58000" y="1676520"/>
            <a:ext cx="1619280" cy="1104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5029200" cy="3933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1600200" cy="2514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872440" y="5867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s enfermer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9440" y="57150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a enfermer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___________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3809880" cy="27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2532240" cy="381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03320" y="59436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jugador de fútbo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7520" y="510552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equipo de fútbo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 gustaría ser __________.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39680" y="5181480"/>
            <a:ext cx="35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l jugador de fútbol american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8098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20:37:48Z</dcterms:created>
  <dc:creator>WFU</dc:creator>
  <dc:description/>
  <dc:language>en-US</dc:language>
  <cp:lastModifiedBy>WSFCS Workstation</cp:lastModifiedBy>
  <dcterms:modified xsi:type="dcterms:W3CDTF">2010-04-14T15:04:53Z</dcterms:modified>
  <cp:revision>20</cp:revision>
  <dc:subject/>
  <dc:title>¿Qué te gustaría ser?</dc:title>
</cp:coreProperties>
</file>